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B7B-A3D6-41D3-93C6-58008B1C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11D-0C94-44CF-84BA-4AD34DE6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2A6-0D4E-4B63-91A5-D69F19D8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7E2-94C8-4143-ADF2-79F98117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657D-C3CA-4505-9FFF-EA3624F6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64DC-C196-463B-BE25-850A203F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1777-F905-4775-9585-9711501A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7270-3A5A-48A8-951F-E681B1EF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6D1B-8D02-4796-9C56-D2006998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A362-80E7-4784-B700-8EBC49EB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515E-0A14-42E6-869F-D19BCDF5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BED-F9EE-4E3B-BCBE-990C4CCC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BA3C-6C7C-4FE4-87B1-9198BC6C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BAF6-32E3-423A-9539-9E71DB5A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FE3A-A9EA-4988-827E-E77C4552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DC49-C85C-416A-8A52-DEFA0E89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2E71-A748-40D4-A255-E29A66DF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6BB1-5E35-43B6-8BF6-1B7B2B57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24D-75C6-45D9-B2E6-04DF81A7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39C-6DB4-48D1-9511-B363FD09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0B6-AC56-4712-8993-8FAE4CA8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CC4-18AC-4D04-BF3B-6B79FC90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9AD-AFB6-476D-9A6A-365780D9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060-109C-455A-A3DB-9EC59F47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3428-D84C-49C2-9C96-971BB75455A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3671-1290-4D0E-9B66-46FBBB7B8E5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Personal Learning Prof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Isaia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55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ffffff"/>
                </a:solidFill>
                <a:latin typeface="Arial Black"/>
              </a:rPr>
              <a:t>I can use what I have learned about the way my brain works in school.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can do this when 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m work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Learning Style is.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acti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 rot="729600">
            <a:off x="3700080" y="1218960"/>
            <a:ext cx="5443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ffffff"/>
                </a:solidFill>
                <a:latin typeface="Arial Black"/>
              </a:rPr>
              <a:t>My learning technique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acti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at Means That 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arn best by doing and that I’m very creativ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intelligence type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acti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at Means That 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arn best by doing and that I’m very creativ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490920" y="2819520"/>
            <a:ext cx="3824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4000" spc="-1" strike="noStrike">
                <a:solidFill>
                  <a:srgbClr val="ffffff"/>
                </a:solidFill>
                <a:latin typeface="Arial Black"/>
              </a:rPr>
              <a:t>I found out that the left hemisphere of my brain is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t very acti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4000" spc="-1" strike="noStrike">
                <a:solidFill>
                  <a:srgbClr val="ffffff"/>
                </a:solidFill>
                <a:latin typeface="Arial Black"/>
              </a:rPr>
              <a:t>I found out that the right hemisphere of my brain i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 very acti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4000" spc="-1" strike="noStrike">
                <a:solidFill>
                  <a:srgbClr val="ffffff"/>
                </a:solidFill>
                <a:latin typeface="Arial Black"/>
              </a:rPr>
              <a:t>It’s important to learn how your brain works because</a:t>
            </a:r>
            <a:r>
              <a:rPr b="0" lang="en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 you’ll know how to help yourself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133720" y="2855880"/>
            <a:ext cx="2914560" cy="30877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2405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48:43Z</dcterms:created>
  <dc:creator>Stephanie Ann Rhodes</dc:creator>
  <dc:description/>
  <dc:language>en-US</dc:language>
  <cp:lastModifiedBy>Stephanie Ann Rhodes</cp:lastModifiedBy>
  <dcterms:modified xsi:type="dcterms:W3CDTF">2010-10-26T13:45:34Z</dcterms:modified>
  <cp:revision>6</cp:revision>
  <dc:subject/>
  <dc:title>My Personal Learning Profile</dc:title>
</cp:coreProperties>
</file>